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0293-C574-41AC-9374-631EA13E6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0061-5409-4587-88F8-71CA95D11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EDB-AA6E-4685-8A20-9890BE86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5C6-B39C-4742-BA0C-9BB4C33C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994-8A46-48D4-9C24-C3A662FC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36F-7CE4-4089-B441-EA0A42B7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587-8FF0-4C48-8468-3D5D0BD3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10B-D890-4B8B-85D7-F1FCCC25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E69-8859-4CF3-A961-C05E1393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F4C-C715-4352-ABDF-0B1DDACC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E69-9A82-456D-BE82-11BDEB2A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C23-E5C9-468A-B511-8BB3E79F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E7F-3405-40FB-8964-566395D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E1B-5DDA-4995-A0AB-B59B20F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CA26-9C58-4A31-8F81-C0442922A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ina Lab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mina Labane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mina Laba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257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28600" y="502920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765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e llamo es Amina &lt;3 Yo vivo en New York City. Tengo catorce años. Tengo no hermanos. Yo soy divertida y simpatica. Yo soy feliz! </a:t>
            </a:r>
            <a:r>
              <a:rPr b="0" lang="es-ES_tradnl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En una realacion con Justi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029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5715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83808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95480" y="3886200"/>
            <a:ext cx="49532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95480" y="327672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Just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cho Gusto. Tu eres muy bonita. ¿Puedes ir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10 minutes ago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95480" y="266688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95480" y="4419720"/>
            <a:ext cx="49532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0 minutes ago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95480" y="4952880"/>
            <a:ext cx="4953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hour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95480" y="5638680"/>
            <a:ext cx="49532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¿Como estás mi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creen Shot 2012-12-04 at 9.53.06 AM.png"/>
          <p:cNvPicPr/>
          <p:nvPr/>
        </p:nvPicPr>
        <p:blipFill>
          <a:blip r:embed="rId1"/>
          <a:stretch/>
        </p:blipFill>
        <p:spPr>
          <a:xfrm>
            <a:off x="2133720" y="259092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Screen Shot 2012-12-04 at 9.56.14 AM.png"/>
          <p:cNvPicPr/>
          <p:nvPr/>
        </p:nvPicPr>
        <p:blipFill>
          <a:blip r:embed="rId2"/>
          <a:stretch/>
        </p:blipFill>
        <p:spPr>
          <a:xfrm>
            <a:off x="2133720" y="3276720"/>
            <a:ext cx="533160" cy="52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Screen Shot 2012-12-04 at 9.56.14 AM.png"/>
          <p:cNvPicPr/>
          <p:nvPr/>
        </p:nvPicPr>
        <p:blipFill>
          <a:blip r:embed="rId3"/>
          <a:stretch/>
        </p:blipFill>
        <p:spPr>
          <a:xfrm>
            <a:off x="152280" y="4495680"/>
            <a:ext cx="559080" cy="55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6" descr="Screen Shot 2012-12-04 at 9.53.06 AM.png"/>
          <p:cNvPicPr/>
          <p:nvPr/>
        </p:nvPicPr>
        <p:blipFill>
          <a:blip r:embed="rId4"/>
          <a:stretch/>
        </p:blipFill>
        <p:spPr>
          <a:xfrm>
            <a:off x="1143000" y="4495680"/>
            <a:ext cx="655560" cy="52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Photo on 12-5-12 at 9.47 AM #4.jpg"/>
          <p:cNvPicPr/>
          <p:nvPr/>
        </p:nvPicPr>
        <p:blipFill>
          <a:blip r:embed="rId5"/>
          <a:stretch/>
        </p:blipFill>
        <p:spPr>
          <a:xfrm>
            <a:off x="152280" y="1371600"/>
            <a:ext cx="1524240" cy="101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Photo on 12-5-12 at 9.47 AM.jpg"/>
          <p:cNvPicPr/>
          <p:nvPr/>
        </p:nvPicPr>
        <p:blipFill>
          <a:blip r:embed="rId6"/>
          <a:stretch/>
        </p:blipFill>
        <p:spPr>
          <a:xfrm>
            <a:off x="152280" y="5334120"/>
            <a:ext cx="60984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Photo on 12-5-12 at 9.47 AM.jpg"/>
          <p:cNvPicPr/>
          <p:nvPr/>
        </p:nvPicPr>
        <p:blipFill>
          <a:blip r:embed="rId7"/>
          <a:stretch/>
        </p:blipFill>
        <p:spPr>
          <a:xfrm>
            <a:off x="2057400" y="3886200"/>
            <a:ext cx="60948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2895480" y="2590920"/>
            <a:ext cx="5029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@Justin, Amina no puedes ir tu casa. Ellas ir a comprar con mi y Jamie.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5 minute ago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895480" y="3809880"/>
            <a:ext cx="4953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Jam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ro ir a compr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 ago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620120" y="5486400"/>
            <a:ext cx="43434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 ago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41Z</dcterms:modified>
  <cp:revision>110</cp:revision>
  <dc:subject/>
  <dc:title>Profile</dc:title>
</cp:coreProperties>
</file>